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4AFCC-E3BD-4AF2-A880-93D3139FC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B8272-0BB4-46DE-9452-E170EF37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C1207-8528-4655-9606-5F57C9439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4991A-A94A-4529-89D9-1998851C4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91B4-BF56-4E81-982E-10C20814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17D1-EB53-4E26-8B98-2B73A9AF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C8DC-8B0C-4D4B-A78B-C97453A5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F075-919D-4B15-A43A-34D24723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EF3C-7464-4E69-9062-A88EEC03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2AF6-9877-4AB1-835A-765FE647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3CAC-AB7F-4323-9F87-181B37AB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442D0-B9C8-483B-AA7A-D6385E1A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1A73-A015-456F-AFD9-34A770D2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6401-2CAC-4555-A647-3510A0A0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A55D-855C-4D7E-B555-21D310B7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14D0-92F7-4266-880C-FA98A5EA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C5FC-84F7-4C16-9F34-9F8B5AEAD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7ADFA-B4B6-4ED5-8731-C3CC71E10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8C07E-B167-461C-9721-14366543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41C77-280D-41CE-BB8F-4CD873BC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845A8-704E-4E55-83A3-AF0B6B46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C63C3-A7B0-4BA7-B107-1B79324D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203A5-4B0D-42EA-824D-4E88819D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7A526-6F02-40AB-AA6F-58AE030A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E0B34-B679-4A26-B587-6FFD2576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C56D3-76E3-4D0F-99F5-7C478B22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51867-7C39-48B9-823A-1B8BE270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6C236-8CC0-4684-B94F-C2166B36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C9F9E-0460-4A65-8C91-9D41B2CC4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9CEA2-4A01-4320-A22E-C3756C9F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E1D20-06C2-4D39-A361-599347B7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BE791-3A17-4938-88D7-84118D17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68C9A-B0DF-49EA-96A4-4C10F555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1FBB2-EB6F-4870-9136-73A1DA10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F1C2F-02FA-4D96-BF9F-7F9EEF52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2790F-6ACB-48E6-8266-6C08FEEA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D406-C482-48D7-B100-B9F18F0A0B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9BE3-F6E8-465C-95E1-97D3057E19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8EF1-345D-4D82-8C10-6B58ABC39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Eye Protection !!!!!!!!!!</a:t>
            </a:r>
            <a:endParaRPr b="1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80880" y="4343400"/>
            <a:ext cx="83822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&gt;1000 eye injuries/day in U.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(Vast majority not in classrooms, thank goodn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362320" y="609480"/>
            <a:ext cx="466560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304920" y="1600200"/>
            <a:ext cx="8838720" cy="2285640"/>
            <a:chOff x="304920" y="1600200"/>
            <a:chExt cx="8838720" cy="228564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rcRect l="0" t="0" r="0" b="27699"/>
            <a:stretch/>
          </p:blipFill>
          <p:spPr>
            <a:xfrm>
              <a:off x="304920" y="1600200"/>
              <a:ext cx="8838720" cy="22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04920" y="3885840"/>
              <a:ext cx="85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124000" y="380880"/>
            <a:ext cx="4815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sing an Eyewash Station</a:t>
            </a:r>
            <a:endParaRPr b="1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3276360"/>
            <a:ext cx="83055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5000"/>
              </a:lnSpc>
              <a:spcBef>
                <a:spcPts val="901"/>
              </a:spcBef>
              <a:spcAft>
                <a:spcPts val="2024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yewash bottles are NOT adequate !!!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5000"/>
              </a:lnSpc>
              <a:spcBef>
                <a:spcPts val="901"/>
              </a:spcBef>
              <a:spcAft>
                <a:spcPts val="2024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each students to help victim. 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5000"/>
              </a:lnSpc>
              <a:spcBef>
                <a:spcPts val="901"/>
              </a:spcBef>
              <a:spcAft>
                <a:spcPts val="2024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ll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ye problems require medical attention.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7384" t="6486" r="0" b="0"/>
          <a:stretch/>
        </p:blipFill>
        <p:spPr>
          <a:xfrm>
            <a:off x="4800600" y="228600"/>
            <a:ext cx="388620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4876560" cy="48769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557360" y="5867280"/>
            <a:ext cx="62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roblem: Inadequate safety equi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?????</a:t>
            </a:r>
            <a:br>
              <a:rPr sz="54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It is important to know which of your students wear contact lenses so that the lenses can be removed immediately in case of a chemical eye splash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Ye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- It is important to know which of your students wear contact lenses…</a:t>
            </a:r>
            <a:br>
              <a:rPr sz="4000"/>
            </a:br>
            <a:br>
              <a:rPr sz="40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No -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…so that the lenses can be removed immediately in case of a chemical eye splash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4800600" cy="4384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380880"/>
            <a:ext cx="914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ver try to remove contact lenses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6:28:20Z</dcterms:created>
  <dc:creator>Cynthia J. Moore</dc:creator>
  <dc:description/>
  <dc:language>en-US</dc:language>
  <cp:lastModifiedBy>Cynthia Moore</cp:lastModifiedBy>
  <dcterms:modified xsi:type="dcterms:W3CDTF">2011-02-22T22:13:18Z</dcterms:modified>
  <cp:revision>44</cp:revision>
  <dc:subject/>
  <dc:title>Safety in the Classroom</dc:title>
</cp:coreProperties>
</file>